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A35-BCFA-446B-BF0D-6F9C74F9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FFB-1E38-417E-BF1E-35F22412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E94-2456-4C38-B0F6-19289EC5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CB6-8DB6-4ACD-B748-94A51422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E88-F974-40C3-A138-2CCB6E33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128-03A1-49F4-8E2A-019A5512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92D-655D-4BBE-9F1A-95DE5CB2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2A2-1B3C-433A-A128-1FDC66CB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E4A-BF86-4B6B-A8C7-B600C498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F86-D6A5-4155-83EA-F291F0C5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E61-27BB-49A0-9F2A-AE7D8FEE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714-5D21-4D13-894E-EFC62FA5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BDAA-C6BF-4724-A751-C9E89D755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c/Eastern_Grey_Squirrel_in_St_James%27s_Park%2C_London_-_Nov_2006_edit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upload.wikimedia.org/wikipedia/en/c/c2/White-tail_deer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en.wikipedia.org/wiki/File:Accipiter_striatusDO1908P02CA.JPG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8/Pinus_pinaster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upload.wikimedia.org/wikipedia/commons/f/f4/Cougar_sitting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upload.wikimedia.org/wikipedia/commons/f/f5/Bobcat_stare.jpg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upload.wikimedia.org/wikipedia/commons/f/f5/Bobcat_stare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4/Northern_Spotted_Owl.USFWS-thumb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upload.wikimedia.org/wikipedia/commons/e/ee/Sa-fern.jpg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upload.wikimedia.org/wikipedia/commons/1/1b/Melanerpes_striatus001.jpg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ulmer_Falls_Closeup_3000px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3200" y="228600"/>
            <a:ext cx="314352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800600"/>
            <a:ext cx="3152880" cy="434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05320" y="152280"/>
            <a:ext cx="3297240" cy="419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490920" y="5181480"/>
            <a:ext cx="33670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7480" y="0"/>
            <a:ext cx="318924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7760" y="4800600"/>
            <a:ext cx="319896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3352680" cy="4419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448080" y="472428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3387600" cy="441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22600" y="0"/>
            <a:ext cx="3335400" cy="434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581280" y="464832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le:Eastern Grey Squirrel in St James's Park, London - Nov 2006 ed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152280"/>
            <a:ext cx="3289320" cy="426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03040" y="4648320"/>
            <a:ext cx="299736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White-tail dee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62200" y="4724280"/>
            <a:ext cx="3143520" cy="4191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Sharp-shinned Hawk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97280" y="228600"/>
            <a:ext cx="2527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File:Pinus pinas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320"/>
            <a:ext cx="2960640" cy="441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4876920"/>
            <a:ext cx="327672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e:Cougar sittin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4724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:Bobcat star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152280"/>
            <a:ext cx="3200400" cy="434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File:Bobcat star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657600" y="3049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File:Northern Spotted Owl.USFWS-thum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4440" y="0"/>
            <a:ext cx="2955960" cy="4495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2874960" cy="4343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File:Sa-fer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660920"/>
            <a:ext cx="3443400" cy="448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File:Melanerpes striatus00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457200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File:IMG 2409-1.JPG"/>
          <p:cNvPicPr/>
          <p:nvPr/>
        </p:nvPicPr>
        <p:blipFill>
          <a:blip r:embed="rId3"/>
          <a:stretch/>
        </p:blipFill>
        <p:spPr>
          <a:xfrm>
            <a:off x="0" y="4724280"/>
            <a:ext cx="3314880" cy="4419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505320" y="76320"/>
            <a:ext cx="3203280" cy="426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505320" y="4724280"/>
            <a:ext cx="32446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00:03:19Z</dcterms:modified>
  <cp:revision>9</cp:revision>
  <dc:subject/>
  <dc:title>Slide 1</dc:title>
</cp:coreProperties>
</file>